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6E513-A74E-4966-B04E-6D9573ED588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d Energy explains the five basic rules of Energy and 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d Energy explains the five basic rules of Energy and 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 and Change: the basic five la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w # 1. “An unbalanced force acting on a body results in a change in motion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this means: the balancing scales will not move…until…we do what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y a weight (an unbalanced force!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 and Change: the basic five la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w # 1. “An unbalanced force acting on a body results in a change in motion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this means: the balancing scales will not move…until…we do what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y a weight (an unbalanced force!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 and Change: the basic five la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w # 2: Objects remain stationary or in constant motion under the influence of balanced fo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this means: The wheel will continue to spin and spin and spin…until…what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nbalance it (here, with brakes). Note that, once it stops, the wheel is once again in bala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 and Change: the basic five la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w # 2: Objects remain stationary or in constant motion under the influence of balanced fo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this means: The wheel will continue to spin and spin and spin…until…what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nbalance it (here, with brakes). Note that, once it stops, the wheel is once again in bala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 and Change: the basic five la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w # 3: Energy can be transferred from one medium to anot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this means: When we heat the pot…what happe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nergy from the fire is transferred to the wate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 and Change: the basic five la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w # 3: Energy can be transferred from one medium to anot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this means: When we heat the pot…what happe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nergy from the fire is transferred to the wate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 and Change: the basic five la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w # 4: Transfers of energy can vary according to the medium in which it trave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this means: When you put a pencil into a glass of water…what happe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nks to the refracting property of water, the pencil appears to be ben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 and Change: the basic five la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w # 4: Transfers of energy can vary according to the medium in which it trave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this means: When you put a pencil into a glass of water…what happe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nks to the refracting property of water, the pencil appears to be ben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 and Change: the basic five la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w # 5: Energy is conserved when it is transferred or transform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this means: When you turn on a bulb, you get energy in the form of light, but you get what other form of energy as wel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mped? Then, do the experiment with your teache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 and Change: the basic five la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w # 5: Energy is conserved when it is transferred or transform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this means: When you turn on a bulb, you get energy in the form of light, but you get what other form of energy as wel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mped? Then, do the experiment with your teache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F4240-31D0-42D4-A4AF-4CBE1C473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328EC-8894-44B9-93A9-1B1F70487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928AB-C566-407F-A9F9-E59DD2932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F0F57-5D35-4C7C-B901-7AE3ED29B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A22CF-3396-4F21-B192-90E1EAE2F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38B0E-5036-4446-8EB5-46D6923B7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0AC9E-32EA-4838-9DB3-90050C840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30B38-A934-441B-8F57-2EF1FFEF5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3A384-9C12-4E85-A561-891AF8596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7443F-15CD-4BAD-B5B8-6EAAA3222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BCC67-1DF7-4F9C-A17C-3E5561CF6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F1C9A-99C7-4AB5-979C-64400EF0F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C17E5-7095-4D64-BEAF-D27D2CFCD8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6" descr="0511-0902-1614-4828_Twister_or_Tornado_with_Lightning_Bolts_clipart_image"/>
          <p:cNvPicPr/>
          <p:nvPr/>
        </p:nvPicPr>
        <p:blipFill>
          <a:blip r:embed="rId1"/>
          <a:stretch/>
        </p:blipFill>
        <p:spPr>
          <a:xfrm>
            <a:off x="2590920" y="1447920"/>
            <a:ext cx="4114800" cy="3211560"/>
          </a:xfrm>
          <a:prstGeom prst="rect">
            <a:avLst/>
          </a:prstGeom>
          <a:ln w="0">
            <a:noFill/>
          </a:ln>
        </p:spPr>
      </p:pic>
      <p:sp>
        <p:nvSpPr>
          <p:cNvPr id="49" name="Text Box 8"/>
          <p:cNvSpPr/>
          <p:nvPr/>
        </p:nvSpPr>
        <p:spPr>
          <a:xfrm>
            <a:off x="5867280" y="3962520"/>
            <a:ext cx="29718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Ed Energy explains the five basic rules of Energy and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path" presetID="5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4 -0.08933 -0.046 -0.16667 -0.113 -0.172 C -0.177 -0.17867 -0.237 -0.11867 -0.241 -0.032 C -0.246 0.048 -0.204 0.12267 -0.144 0.128 C -0.089 0.132 -0.037 0.08267 -0.033 0.008 C -0.029 -0.06 -0.064 -0.124 -0.115 -0.12933 C -0.162 -0.13333 -0.206 -0.092 -0.209 -0.02933 C -0.212 0.02667 -0.184 0.08133 -0.142 0.084 C -0.104 0.088 -0.068 0.056 -0.065 0.00533 C -0.063 -0.04 -0.084 -0.084 -0.117 -0.08667 C -0.146 -0.08933 -0.175 -0.06533 -0.177 -0.02667 C -0.179 0.00667 -0.164 0.03867 -0.14 0.04133 C -0.12 0.044 -0.099 0.02933 -0.098 0.00267 C -0.096 -0.01867 -0.104 -0.04133 -0.119 -0.044 C -0.131 -0.044 -0.143 -0.03867 -0.145 -0.024 C -0.146 -0.01467 -0.144 -0.00533 -0.138 -0.00133 C -0.135 0 -0.133 0 -0.13 -0.00133 E">
                                      <p:cBhvr>
                                        <p:cTn id="12" dur="20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5" descr="11954348431437107035Gerald_G_Balance_Scale"/>
          <p:cNvPicPr/>
          <p:nvPr/>
        </p:nvPicPr>
        <p:blipFill>
          <a:blip r:embed="rId1"/>
          <a:stretch/>
        </p:blipFill>
        <p:spPr>
          <a:xfrm>
            <a:off x="3429000" y="1143000"/>
            <a:ext cx="5715000" cy="3695760"/>
          </a:xfrm>
          <a:prstGeom prst="rect">
            <a:avLst/>
          </a:prstGeom>
          <a:ln w="0">
            <a:noFill/>
          </a:ln>
        </p:spPr>
      </p:pic>
      <p:sp>
        <p:nvSpPr>
          <p:cNvPr id="51" name="Text Box 6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Energy and Change: the basic five la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7"/>
          <p:cNvSpPr/>
          <p:nvPr/>
        </p:nvSpPr>
        <p:spPr>
          <a:xfrm>
            <a:off x="152280" y="1143000"/>
            <a:ext cx="4038840" cy="103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Engravers MT"/>
              </a:rPr>
              <a:t>Law # 1.</a:t>
            </a:r>
            <a:r>
              <a:rPr b="1" lang="en-US" sz="2000" spc="-1" strike="noStrike">
                <a:solidFill>
                  <a:srgbClr val="cc9900"/>
                </a:solidFill>
                <a:latin typeface="Arial"/>
              </a:rPr>
              <a:t> “An </a:t>
            </a:r>
            <a:r>
              <a:rPr b="1" lang="en-US" sz="2000" spc="-1" strike="noStrike" u="sng">
                <a:solidFill>
                  <a:srgbClr val="cc9900"/>
                </a:solidFill>
                <a:uFillTx/>
                <a:latin typeface="Arial"/>
              </a:rPr>
              <a:t>unbalanced</a:t>
            </a:r>
            <a:r>
              <a:rPr b="1" lang="en-US" sz="2000" spc="-1" strike="noStrike">
                <a:solidFill>
                  <a:srgbClr val="cc9900"/>
                </a:solidFill>
                <a:latin typeface="Arial"/>
              </a:rPr>
              <a:t> force acting on a body results in a change in motion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0" y="4800600"/>
            <a:ext cx="4343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Engravers MT"/>
              </a:rPr>
              <a:t>What this means: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cc9900"/>
                </a:solidFill>
                <a:latin typeface="Arial"/>
              </a:rPr>
              <a:t>the balancing scales will not move…until…we do what??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2" descr=""/>
          <p:cNvPicPr/>
          <p:nvPr/>
        </p:nvPicPr>
        <p:blipFill>
          <a:blip r:embed="rId2"/>
          <a:stretch/>
        </p:blipFill>
        <p:spPr>
          <a:xfrm>
            <a:off x="3809880" y="-741240"/>
            <a:ext cx="1160640" cy="7412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3" descr=""/>
          <p:cNvPicPr/>
          <p:nvPr/>
        </p:nvPicPr>
        <p:blipFill>
          <a:blip r:embed="rId3"/>
          <a:stretch/>
        </p:blipFill>
        <p:spPr>
          <a:xfrm>
            <a:off x="3427560" y="1143000"/>
            <a:ext cx="5716440" cy="36972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14"/>
          <p:cNvSpPr/>
          <p:nvPr/>
        </p:nvSpPr>
        <p:spPr>
          <a:xfrm>
            <a:off x="3514320" y="6172200"/>
            <a:ext cx="5302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9900"/>
                </a:solidFill>
                <a:latin typeface="Arial"/>
              </a:rPr>
              <a:t>Apply a weight (an unbalanced force!)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3 0.08727 L 0.0033 0.5095 E">
                                      <p:cBhvr>
                                        <p:cTn id="23" dur="200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3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Energy and Change: the basic five la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4"/>
          <p:cNvSpPr/>
          <p:nvPr/>
        </p:nvSpPr>
        <p:spPr>
          <a:xfrm>
            <a:off x="152280" y="1143000"/>
            <a:ext cx="40388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Engravers MT"/>
              </a:rPr>
              <a:t>Law # 2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cc9900"/>
                </a:solidFill>
                <a:latin typeface="Arial"/>
              </a:rPr>
              <a:t>Objects remain stationary or in constant motion under the influence of balanced fo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228600" y="4038480"/>
            <a:ext cx="4114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Engravers MT"/>
              </a:rPr>
              <a:t>What this means: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cc9900"/>
                </a:solidFill>
                <a:latin typeface="Arial"/>
              </a:rPr>
              <a:t>The wheel will continue to spin and spin and spin…until…what??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8"/>
          <p:cNvSpPr/>
          <p:nvPr/>
        </p:nvSpPr>
        <p:spPr>
          <a:xfrm>
            <a:off x="2057400" y="6019920"/>
            <a:ext cx="6934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9900"/>
                </a:solidFill>
                <a:latin typeface="Arial"/>
              </a:rPr>
              <a:t>We </a:t>
            </a:r>
            <a:r>
              <a:rPr b="1" lang="en-US" sz="2200" spc="-1" strike="noStrike" u="sng">
                <a:solidFill>
                  <a:srgbClr val="cc9900"/>
                </a:solidFill>
                <a:uFillTx/>
                <a:latin typeface="Arial"/>
              </a:rPr>
              <a:t>unbalance</a:t>
            </a:r>
            <a:r>
              <a:rPr b="1" lang="en-US" sz="2200" spc="-1" strike="noStrike">
                <a:solidFill>
                  <a:srgbClr val="cc9900"/>
                </a:solidFill>
                <a:latin typeface="Arial"/>
              </a:rPr>
              <a:t> it (here, with brakes). Note that, once it stops, the wheel is once again in balanc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2" descr="wheel36"/>
          <p:cNvPicPr/>
          <p:nvPr/>
        </p:nvPicPr>
        <p:blipFill>
          <a:blip r:embed="rId1"/>
          <a:stretch/>
        </p:blipFill>
        <p:spPr>
          <a:xfrm>
            <a:off x="4572000" y="1523880"/>
            <a:ext cx="3809880" cy="38102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3" descr=""/>
          <p:cNvPicPr/>
          <p:nvPr/>
        </p:nvPicPr>
        <p:blipFill>
          <a:blip r:embed="rId2"/>
          <a:stretch/>
        </p:blipFill>
        <p:spPr>
          <a:xfrm>
            <a:off x="4191120" y="1447920"/>
            <a:ext cx="4673520" cy="38923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4" descr=""/>
          <p:cNvPicPr/>
          <p:nvPr/>
        </p:nvPicPr>
        <p:blipFill>
          <a:blip r:embed="rId3"/>
          <a:stretch/>
        </p:blipFill>
        <p:spPr>
          <a:xfrm>
            <a:off x="4114800" y="1523880"/>
            <a:ext cx="467352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0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39" dur="5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5200"/>
                            </p:stCondLst>
                            <p:childTnLst>
                              <p:par>
                                <p:cTn id="44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4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2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Energy and Change: the basic five la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3"/>
          <p:cNvSpPr/>
          <p:nvPr/>
        </p:nvSpPr>
        <p:spPr>
          <a:xfrm>
            <a:off x="152280" y="1143000"/>
            <a:ext cx="40388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ngravers MT"/>
              </a:rPr>
              <a:t>Law # 3:</a:t>
            </a:r>
            <a:r>
              <a:rPr b="1" lang="en-US" sz="2000" spc="-1" strike="noStrike">
                <a:solidFill>
                  <a:srgbClr val="cc9900"/>
                </a:solidFill>
                <a:latin typeface="Arial"/>
              </a:rPr>
              <a:t> Energy can be transferred from one medium to anoth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4"/>
          <p:cNvSpPr/>
          <p:nvPr/>
        </p:nvSpPr>
        <p:spPr>
          <a:xfrm>
            <a:off x="152280" y="3657600"/>
            <a:ext cx="41911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Engravers MT"/>
              </a:rPr>
              <a:t>What this means: </a:t>
            </a:r>
            <a:r>
              <a:rPr b="1" lang="en-US" sz="2000" spc="-1" strike="noStrike">
                <a:solidFill>
                  <a:srgbClr val="cc9900"/>
                </a:solidFill>
                <a:latin typeface="Arial"/>
              </a:rPr>
              <a:t>When we heat the pot…what happen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5"/>
          <p:cNvSpPr/>
          <p:nvPr/>
        </p:nvSpPr>
        <p:spPr>
          <a:xfrm>
            <a:off x="609480" y="5105520"/>
            <a:ext cx="4496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9900"/>
                </a:solidFill>
                <a:latin typeface="Arial"/>
              </a:rPr>
              <a:t>The energy from the fire is transferred to the water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18" descr=""/>
          <p:cNvPicPr/>
          <p:nvPr/>
        </p:nvPicPr>
        <p:blipFill>
          <a:blip r:embed="rId1"/>
          <a:stretch/>
        </p:blipFill>
        <p:spPr>
          <a:xfrm>
            <a:off x="5562720" y="5946840"/>
            <a:ext cx="3112920" cy="9111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9" descr=""/>
          <p:cNvPicPr/>
          <p:nvPr/>
        </p:nvPicPr>
        <p:blipFill>
          <a:blip r:embed="rId2"/>
          <a:stretch/>
        </p:blipFill>
        <p:spPr>
          <a:xfrm>
            <a:off x="5943600" y="4419720"/>
            <a:ext cx="2590920" cy="12776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0" descr=""/>
          <p:cNvPicPr/>
          <p:nvPr/>
        </p:nvPicPr>
        <p:blipFill>
          <a:blip r:embed="rId3"/>
          <a:stretch/>
        </p:blipFill>
        <p:spPr>
          <a:xfrm>
            <a:off x="5791320" y="2362320"/>
            <a:ext cx="2770200" cy="20001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1" descr=""/>
          <p:cNvPicPr/>
          <p:nvPr/>
        </p:nvPicPr>
        <p:blipFill>
          <a:blip r:embed="rId4"/>
          <a:stretch/>
        </p:blipFill>
        <p:spPr>
          <a:xfrm>
            <a:off x="4572000" y="990720"/>
            <a:ext cx="1522440" cy="18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0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4.44444E-006 C -0.00226 0.02593 0.00173 0.0169 -0.01042 0.01181 C -0.01129 0.01436 -0.01163 0.02176 -0.0132 0.01968 C -0.01563 0.01621 -0.01424 0.01042 -0.01476 0.00579 C -0.01598 -0.0037 -0.01598 -0.00324 -0.01771 -0.0118 C -0.02431 -0.00578 -0.02882 0.00139 -0.03386 0.00973 C -0.03716 -0.01018 -0.0342 -0.01273 -0.03976 -0.00208 C -0.03837 -0.00138 -0.03698 0.00024 -0.03542 -4.44444E-006 C -0.02726 -0.00138 -0.03091 -0.00902 -0.02795 0.00186 C -0.02743 0.00718 -0.02934 0.01389 -0.02657 0.0176 C -0.02483 0.02014 -0.02448 0.01112 -0.02361 0.00787 C -0.02101 -0.00115 -0.02361 0.00394 -0.01771 -0.00393 C -0.01719 0.00255 -0.01962 0.01112 -0.01615 0.01575 C -0.01389 0.01875 -0.01129 0.01042 -0.00886 0.00787 C -0.00504 0.00394 0.00434 -4.44443999999999E-006 0.00434 0.00024 C 0.00677 0.0125 0.00503 0.0044 0.00885 0.01968 C 0.00937 0.02153 0.01024 0.02547 0.01024 0.0257 C 0.01215 0.02408 0.01423 0.02315 0.01614 0.02153 C 0.01962 0.01852 0.02639 0.01181 0.02639 0.01204 C 0.02795 0.01366 0.02968 0.01528 0.0309 0.0176 C 0.03177 0.01945 0.03073 0.02362 0.03229 0.02362 C 0.03385 0.02362 0.03298 0.01945 0.03385 0.0176 C 0.03541 0.01412 0.03767 0.01112 0.03958 0.00787 C 0.0401 0.00579 0.04114 -0.00023 0.04114 0.00186 C 0.04114 0.00579 0.04201 0.01135 0.03958 0.01366 C 0.03784 0.01528 0.03767 0.00857 0.0368 0.00579 C 0.03455 -0.00115 0.03264 -0.0074 0.02934 -0.01365 C 0.0283 -0.0118 0.02708 -0.00995 0.02639 -0.00787 C 0.02361 0.00209 0.02691 0.00811 0.02205 -0.00787 C 0.02048 -0.00717 0.01857 -0.00763 0.01753 -0.00601 C 0.01632 -0.00393 0.01684 -0.00069 0.01614 0.00186 C 0.01545 0.00463 0.01406 0.00695 0.01319 0.00973 C 0.01267 0.01158 0.01232 0.01366 0.0118 0.01575 C 0.01406 0.02524 0.0151 0.02963 0.00729 0.03334 C 0.00434 0.03264 0.00017 0.0345 -0.00157 0.03125 C -0.00382 0.02662 0.00434 0.01783 0.0059 0.01575 C 0.00468 0.00301 0.00625 -0.00324 -0.00157 -0.00972 C -0.00452 -0.00208 -0.00834 0.00463 -0.01181 0.01181 C -0.01233 0.00209 -0.01094 -0.00833 -0.0132 -0.01759 C -0.01389 -0.02013 -0.01684 -0.01435 -0.01771 -0.0118 C -0.01875 -0.00879 -0.01858 -0.00532 -0.0191 -0.00208 C -0.02066 0.00764 -0.02466 0.01505 -0.02795 0.02362 C -0.02865 0.02547 -0.03056 0.02801 -0.02952 0.0294 C -0.0283 0.03079 -0.02657 0.02778 -0.025 0.02732 C -0.02118 0.02639 -0.01719 0.02616 -0.0132 0.02547 C -0.00521 0.02292 -0.00486 0.01783 3.05556E-006 0.02732 C -0.00052 0.03056 -0.00157 0.0338 -0.00157 0.03727 C -0.00157 0.03936 -0.00139 0.04399 3.05556E-006 0.04306 C 0.00486 0.03982 0.00364 0.03218 0.0059 0.02732 C 0.00764 0.02385 0.00989 0.02084 0.0118 0.0176 C 0.00694 0.03658 0.0283 0.01528 0.03229 0.01181 C 0.03125 0.01575 0.03021 0.01968 0.02934 0.02362 C 0.02882 0.0257 0.0309 0.0176 0.0309 0.01783 C 0.03038 0.01227 0.03212 0.00556 0.02934 0.00186 C 0.02725 -0.00092 0.02378 0.01459 0.02343 0.01575 C 0.0125 0.00116 0.01823 0.00116 0.00729 0.00973 C 0.00625 0.01181 0.00573 0.01713 0.00434 0.01575 C 0.00191 0.01343 0.00121 0.00024 3.05556E-006 -0.00393 C -0.00139 -0.00856 -0.00504 -0.0125 -0.00747 -0.01574 C -0.01042 -0.01435 -0.01354 -0.01388 -0.01615 -0.0118 C -0.03368 0.00116 -0.0099 -0.01111 -0.025 -0.00393 C -0.02604 -0.00578 -0.02622 -0.00972 -0.02795 -0.00972 C -0.03264 -0.00972 -0.03334 0.0007 -0.03386 0.00394 C -0.03334 0.00579 -0.03386 0.01065 -0.03247 0.00973 C -0.03073 0.00857 -0.03143 0.0044 -0.03091 0.00186 C -0.02934 -0.00671 -0.03021 -0.01088 -0.02361 -0.01365 C -0.02118 0.01065 -0.02431 0.00047 -0.01042 -0.00393 C 0.00052 -0.00208 3.05556E-006 -0.00671 3.05556E-006 -4.44444E-006 Z">
                                      <p:cBhvr>
                                        <p:cTn id="60" dur="5000" fill="hold"/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2" dur="2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63" dur="2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64" dur="2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65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6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67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8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3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73472E-018 -3.33333E-006 C -0.00885 -0.00926 -0.01319 -0.01458 -0.02361 -0.02153 C -0.02587 -0.02292 -0.02743 -0.02593 -0.02951 -0.02755 C -0.0309 -0.02847 -0.0349 -0.03079 -0.03385 -0.0294 C -0.03108 -0.0257 -0.02691 -0.02454 -0.02361 -0.02153 C -0.025 -0.03634 -0.02396 -0.04236 -0.03385 -0.04908 C -0.03194 -0.04121 -0.03177 -0.0382 -0.02656 -0.03333 C -0.0217 -0.02361 -0.01892 -0.01412 -0.01181 -0.00787 C -0.01493 -0.01806 -0.01979 -0.02477 -0.02656 -0.03148 C -0.0283 -0.03333 -0.03472 -0.03542 -0.03247 -0.03542 C -0.02986 -0.03542 -0.0276 -0.03241 -0.025 -0.03148 C -0.02431 -0.03125 -0.02604 -0.03264 -0.02656 -0.03333 C -0.02795 -0.03519 -0.02969 -0.03681 -0.0309 -0.03912 C -0.03507 -0.04699 -0.03646 -0.05324 -0.04271 -0.0588 C -0.04323 -0.06088 -0.04427 -0.0669 -0.04427 -0.06482 C -0.04427 -0.06204 -0.04306 -0.05972 -0.04271 -0.05695 C -0.04028 -0.03565 -0.04583 -0.0419 -0.03542 -0.03542 C -0.02535 -0.02199 -0.03003 -0.02523 -0.01927 -0.01968 C -0.01771 -0.01898 -0.01476 -0.01551 -0.01476 -0.01759 C -0.01476 -0.01991 -0.02031 -0.02361 -0.01927 -0.02153 C -0.01736 -0.01759 -0.01441 -0.01482 -0.01181 -0.01181 C -0.00712 -0.00671 -0.00226 -0.00208 0.00295 0.00185 C 0.00677 0.00463 0.01458 0.00972 0.01458 0.00972 C 0.01649 0.01366 0.01753 0.01898 0.02049 0.02153 C 0.02205 0.02292 0.02674 0.02454 0.025 0.02546 C 0.02222 0.02685 0.0191 0.0243 0.01615 0.02361 C 0.00729 0.01759 -0.00104 0.01574 -0.01042 0.0118 C 0.00139 0.02454 0.00747 0.02917 0.02049 0.03727 C 0.02326 0.03912 0.02656 0.03958 0.02934 0.0412 C 0.03333 0.04352 0.04427 0.05324 0.04115 0.04907 C 0.0375 0.04421 0.03437 0.03819 0.03073 0.03333 C 0.02014 0.01921 0.03403 0.04398 0.02049 0.02153 C 0.01823 0.01782 0.01458 0.00972 0.01458 0.00972 C 0.01354 0.00579 0.0125 0.00185 0.01163 -0.00208 C 0.01111 -0.00417 0.01267 0.00185 0.01319 0.00393 C 0.01406 0.00741 0.01736 0.00903 0.0191 0.0118 C 0.02622 0.02338 0.02535 0.02708 0.03524 0.03125 C 0.02917 0.01111 0.01198 -0.01158 -0.00156 -0.02361 C -0.00573 -0.02732 0.00382 -0.0125 0.00729 -0.00787 C 0.00868 -0.00602 0.01372 -0.00208 0.01163 -0.00208 C 0.00903 -0.00208 0.0033 -0.01181 0.00139 -0.01366 C -0.00694 -0.02199 -0.01615 -0.02917 -0.02361 -0.03912 C -0.02483 -0.04074 -0.02066 -0.03681 -0.01927 -0.03542 C -0.0099 -0.02523 -0.02014 -0.03287 -0.00885 -0.02546 C 0.00052 -0.00718 -0.0125 -0.04005 -0.01337 -0.04306 C -0.01493 -0.05857 -0.01701 -0.06528 -0.02361 -0.07847 C -0.02604 -0.08333 -0.01771 -0.06273 -0.01771 -0.06273 C -0.01441 -0.07732 -0.01771 -0.0632 -0.01771 -0.06088 C -0.01771 -0.05695 -0.01632 -0.05301 -0.01632 -0.04908 C -0.01632 -0.04699 -0.01684 -0.05324 -0.01771 -0.05486 C -0.01875 -0.05671 -0.02066 -0.05741 -0.02205 -0.0588 C -0.02101 -0.05 -0.02014 -0.04051 -0.01337 -0.03542 C -0.01059 -0.03333 -0.00451 -0.03148 -0.00451 -0.03148 C -0.00347 -0.025 -0.0033 -0.01806 -0.00156 -0.01181 C 0.00017 -0.00533 0.00781 0.000229999999999999 -0.00156 -0.00787 C -0.0026 -0.00972 -0.00347 -0.01181 -0.00451 -0.01366 C -0.0059 -0.01574 -0.00885 -0.0169 -0.00885 -0.01968 C -0.00885 -0.02199 -0.0059 -0.01713 -0.00451 -0.01574 C -0.00295 -0.01389 -0.00174 -0.01134 1.73472E-018 -0.00972 C 0.0066 -0.00324 0.00747 -0.0044 0.01458 -3.33333E-006 C 0.01858 0.00254 0.02222 0.00602 0.02639 0.00787 C 0.02778 0.00856 0.03177 0.01111 0.03073 0.00972 C 0.025 0.00208 0.0158 0.00116 0.00868 -0.00208 C 0.01128 0.00833 0.0184 0.0118 0.025 0.01759 C 0.02899 0.02106 0.01806 0.00856 0.01458 0.00393 C 0.01285 0.00162 0.01059 -3.33332999999988E-006 0.00868 -0.00208 C 0.01319 0.01342 0.02187 0.02292 0.03229 0.03125 C 0.02917 0.01967 0.02656 0.01389 0.01753 0.00972 C 0.0151 0.02037 0.01719 0.01504 0.01458 0.00972 C 0.01337 0.00741 0.01163 0.00579 0.01024 0.00393 C 0.01302 0.01551 0.01493 0.01667 0.02344 0.01366 C 0.02153 0.01227 0.01927 0.01157 0.01753 0.00972 C 0.01528 0.00741 0.01406 0.0037 0.01163 0.00185 C 0.00799 -0.00093 0.00365 -0.00139 1.73472E-018 -0.00394 C -0.0066 -0.00833 -0.01181 -0.01458 -0.01927 -0.01759 C -0.01181 -0.00972 -0.00469 -0.00185 0.00295 0.00579 C 0.00972 0.00278 0.00868 0.00463 1.73472E-018 -3.33333E-006 Z">
                                      <p:cBhvr>
                                        <p:cTn id="75" dur="3000" fill="hold"/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2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Energy and Change: the basic five la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152280" y="1143000"/>
            <a:ext cx="40388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ngravers MT"/>
              </a:rPr>
              <a:t>Law # 4:</a:t>
            </a:r>
            <a:r>
              <a:rPr b="1" lang="en-US" sz="2000" spc="-1" strike="noStrike">
                <a:solidFill>
                  <a:srgbClr val="cc9900"/>
                </a:solidFill>
                <a:latin typeface="Arial"/>
              </a:rPr>
              <a:t> Transfers of energy can vary according to the medium in which it trave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4"/>
          <p:cNvSpPr/>
          <p:nvPr/>
        </p:nvSpPr>
        <p:spPr>
          <a:xfrm>
            <a:off x="380880" y="3048120"/>
            <a:ext cx="4191120" cy="103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Engravers MT"/>
              </a:rPr>
              <a:t>What this means: </a:t>
            </a:r>
            <a:r>
              <a:rPr b="1" lang="en-US" sz="2000" spc="-1" strike="noStrike">
                <a:solidFill>
                  <a:srgbClr val="cc9900"/>
                </a:solidFill>
                <a:latin typeface="Arial"/>
              </a:rPr>
              <a:t>When you put a pencil into a glass of water…what happen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5"/>
          <p:cNvSpPr/>
          <p:nvPr/>
        </p:nvSpPr>
        <p:spPr>
          <a:xfrm>
            <a:off x="609480" y="5105520"/>
            <a:ext cx="44960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9900"/>
                </a:solidFill>
                <a:latin typeface="Arial"/>
              </a:rPr>
              <a:t>Thanks to the refracting property of water, the pencil appears to be bent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11" descr=""/>
          <p:cNvPicPr/>
          <p:nvPr/>
        </p:nvPicPr>
        <p:blipFill>
          <a:blip r:embed="rId1"/>
          <a:stretch/>
        </p:blipFill>
        <p:spPr>
          <a:xfrm>
            <a:off x="5257800" y="1295280"/>
            <a:ext cx="3579840" cy="47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0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2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Energy and Change: the basic five la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3"/>
          <p:cNvSpPr/>
          <p:nvPr/>
        </p:nvSpPr>
        <p:spPr>
          <a:xfrm>
            <a:off x="152280" y="1143000"/>
            <a:ext cx="40388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ngravers MT"/>
              </a:rPr>
              <a:t>Law # 5:</a:t>
            </a:r>
            <a:r>
              <a:rPr b="1" lang="en-US" sz="2000" spc="-1" strike="noStrike">
                <a:solidFill>
                  <a:srgbClr val="cc9900"/>
                </a:solidFill>
                <a:latin typeface="Arial"/>
              </a:rPr>
              <a:t> Energy is conserved when it is transferred or transform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4"/>
          <p:cNvSpPr/>
          <p:nvPr/>
        </p:nvSpPr>
        <p:spPr>
          <a:xfrm>
            <a:off x="380880" y="3048120"/>
            <a:ext cx="4191120" cy="164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Engravers MT"/>
              </a:rPr>
              <a:t>What this means: </a:t>
            </a:r>
            <a:r>
              <a:rPr b="1" lang="en-US" sz="2000" spc="-1" strike="noStrike">
                <a:solidFill>
                  <a:srgbClr val="cc9900"/>
                </a:solidFill>
                <a:latin typeface="Arial"/>
              </a:rPr>
              <a:t>When you turn on a bulb, you get energy in the form of light, but you get what other form of energy as well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609480" y="5105520"/>
            <a:ext cx="38102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9900"/>
                </a:solidFill>
                <a:latin typeface="Arial"/>
              </a:rPr>
              <a:t>Stumped? Then, do the experiment with your teacher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9" descr=""/>
          <p:cNvPicPr/>
          <p:nvPr/>
        </p:nvPicPr>
        <p:blipFill>
          <a:blip r:embed="rId1"/>
          <a:stretch/>
        </p:blipFill>
        <p:spPr>
          <a:xfrm>
            <a:off x="5029200" y="990720"/>
            <a:ext cx="3902040" cy="55022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0" descr=""/>
          <p:cNvPicPr/>
          <p:nvPr/>
        </p:nvPicPr>
        <p:blipFill>
          <a:blip r:embed="rId2"/>
          <a:stretch/>
        </p:blipFill>
        <p:spPr>
          <a:xfrm>
            <a:off x="5029200" y="990720"/>
            <a:ext cx="3902040" cy="550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6T00:21:06Z</dcterms:created>
  <dc:creator/>
  <dc:description/>
  <dc:language>en-US</dc:language>
  <cp:lastModifiedBy>RomaK</cp:lastModifiedBy>
  <dcterms:modified xsi:type="dcterms:W3CDTF">2015-09-03T12:25:28Z</dcterms:modified>
  <cp:revision>13</cp:revision>
  <dc:subject/>
  <dc:title>Five basic rules of energy and change</dc:title>
</cp:coreProperties>
</file>